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7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2465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8A22-3179-4A58-8A21-CE18CFA89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E621-7AAC-45E4-A17D-2B4F94EC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C12A-648C-42DE-A713-A3BF0F131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B3E0-5954-41A2-BBFD-78F2EA079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F29D-E4CF-4783-873E-F3B02C9D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92C9-FB77-4947-A110-D03C853E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B8D7-A51F-410E-AD9C-03CC1E5A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2F88-BD8F-45FA-8147-FDB04D52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FB9D-E35D-45CA-BDBD-6D990639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4524-EB34-40DE-BEF1-E4022AA9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6759-2FAC-48BD-BF82-D4E4A888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CCDE-216A-4856-8E93-2FB23D6B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6280-367E-406E-9626-084DFB6CA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2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3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4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5.wmf"/><Relationship Id="rId1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7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8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9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20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21.wmf"/><Relationship Id="rId1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25.wmf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3333cc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IL TRAFFICO GIORNALIERO ME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3680" indent="-1936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Il traffico giornaliero medio è il parametro fondamentale con il quale viene  quantificato il traffico sulle st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Il valore viene calcolato con “la formula di Ginevra”, utilizzata dall’ANAS dal 19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TGM</a:t>
            </a:r>
            <a:r>
              <a:rPr b="0" lang="en-US" sz="2000" spc="-1" strike="noStrike" baseline="-25000">
                <a:solidFill>
                  <a:srgbClr val="ffff66"/>
                </a:solidFill>
                <a:latin typeface="Times New Roman"/>
              </a:rPr>
              <a:t>TOTALE 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= TGM</a:t>
            </a:r>
            <a:r>
              <a:rPr b="0" lang="en-US" sz="2000" spc="-1" strike="noStrike" baseline="-25000">
                <a:solidFill>
                  <a:srgbClr val="ffff66"/>
                </a:solidFill>
                <a:latin typeface="Times New Roman"/>
              </a:rPr>
              <a:t>DIURNO 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+ TGM</a:t>
            </a:r>
            <a:r>
              <a:rPr b="0" lang="en-US" sz="2000" spc="-1" strike="noStrike" baseline="-25000">
                <a:solidFill>
                  <a:srgbClr val="ffff66"/>
                </a:solidFill>
                <a:latin typeface="Times New Roman"/>
              </a:rPr>
              <a:t>NOTTU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Il TGM</a:t>
            </a:r>
            <a:r>
              <a:rPr b="0" lang="en-US" sz="2000" spc="-1" strike="noStrike" baseline="-25000">
                <a:solidFill>
                  <a:srgbClr val="ffff66"/>
                </a:solidFill>
                <a:latin typeface="Times New Roman"/>
              </a:rPr>
              <a:t>DIURNO 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ed il TGM</a:t>
            </a:r>
            <a:r>
              <a:rPr b="0" lang="en-US" sz="2000" spc="-1" strike="noStrike" baseline="-25000">
                <a:solidFill>
                  <a:srgbClr val="ffff66"/>
                </a:solidFill>
                <a:latin typeface="Times New Roman"/>
              </a:rPr>
              <a:t>NOTTURNO 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sono a loro volta funzione del TGM rilevato in ben precisi giorni dell’anno rispettivamente dalle 7.00 alle 19.00 e dalle 19.00 alle 7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15000" y="6453360"/>
            <a:ext cx="3429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ANAS - DIREZIONE CENTRALE LAV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876920" y="5904000"/>
          <a:ext cx="803160" cy="95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5904000"/>
                    <a:ext cx="80316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364680" y="6499080"/>
            <a:ext cx="1126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85800"/>
            <a:ext cx="822960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3333cc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Distribuzione media del traffico per catego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15000" y="6453360"/>
            <a:ext cx="3429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ANAS - DIREZIONE CENTRALE LAV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876920" y="5904000"/>
          <a:ext cx="803160" cy="95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5904000"/>
                    <a:ext cx="80316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364680" y="6499080"/>
            <a:ext cx="1126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219320"/>
            <a:ext cx="822960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143000" y="1600200"/>
          <a:ext cx="7391520" cy="4084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600200"/>
                    <a:ext cx="7391520" cy="40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3333cc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Distribuzione media del traffico per catego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15000" y="6453360"/>
            <a:ext cx="3429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ANAS - DIREZIONE CENTRALE LAV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876920" y="5904000"/>
          <a:ext cx="803160" cy="95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5904000"/>
                    <a:ext cx="80316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64680" y="6499080"/>
            <a:ext cx="1126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1219320"/>
            <a:ext cx="822960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14400" y="1447920"/>
          <a:ext cx="7772400" cy="4211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447920"/>
                    <a:ext cx="7772400" cy="42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3333cc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Distribuzione percentuale del traffico pesante e legg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6453360"/>
            <a:ext cx="3429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ANAS - DIREZIONE CENTRALE LAV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876920" y="5904000"/>
          <a:ext cx="803160" cy="95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5904000"/>
                    <a:ext cx="80316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364680" y="6499080"/>
            <a:ext cx="1126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1219320"/>
            <a:ext cx="822960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447920"/>
          <a:ext cx="2914560" cy="2057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447920"/>
                    <a:ext cx="291456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3657600" y="1447920"/>
          <a:ext cx="2666880" cy="20476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57600" y="1447920"/>
                    <a:ext cx="2666880" cy="20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477120" y="1523880"/>
          <a:ext cx="2352600" cy="19051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77120" y="1523880"/>
                    <a:ext cx="23526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533520" y="3581280"/>
          <a:ext cx="2666880" cy="200052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520" y="3581280"/>
                    <a:ext cx="2666880" cy="20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3809880" y="3581280"/>
          <a:ext cx="2590920" cy="202572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9880" y="3581280"/>
                    <a:ext cx="2590920" cy="20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6477120" y="3657600"/>
          <a:ext cx="2438280" cy="187164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77120" y="3657600"/>
                    <a:ext cx="243828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3333cc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Distribuzione percentuale del traffico pesante e legg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6453360"/>
            <a:ext cx="3429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ANAS - DIREZIONE CENTRALE LAV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876920" y="5904000"/>
          <a:ext cx="803160" cy="95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5904000"/>
                    <a:ext cx="80316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364680" y="6499080"/>
            <a:ext cx="1126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1219320"/>
            <a:ext cx="822960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04920" y="1447920"/>
          <a:ext cx="2504880" cy="2057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447920"/>
                    <a:ext cx="25048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3200400" y="3657600"/>
          <a:ext cx="2771640" cy="19810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3657600"/>
                    <a:ext cx="27716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6095880" y="3581280"/>
          <a:ext cx="2648160" cy="20005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5880" y="3581280"/>
                    <a:ext cx="2648160" cy="20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3048120" y="1447920"/>
          <a:ext cx="2628720" cy="198108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8120" y="1447920"/>
                    <a:ext cx="26287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6095880" y="1447920"/>
          <a:ext cx="2505240" cy="197172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95880" y="1447920"/>
                    <a:ext cx="250524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04920" y="3733920"/>
          <a:ext cx="2733480" cy="199044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4920" y="3733920"/>
                    <a:ext cx="2733480" cy="19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3333cc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Distribuzione percentuale del traffico pesante e legg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15000" y="6453360"/>
            <a:ext cx="3429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ANAS - DIREZIONE CENTRALE LAV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876920" y="5904000"/>
          <a:ext cx="803160" cy="95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5904000"/>
                    <a:ext cx="80316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364680" y="6499080"/>
            <a:ext cx="1126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1219320"/>
            <a:ext cx="822960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371600" y="1676520"/>
          <a:ext cx="2610000" cy="2009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1676520"/>
                    <a:ext cx="2610000" cy="20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638680" y="1676520"/>
          <a:ext cx="2629080" cy="2028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1676520"/>
                    <a:ext cx="2629080" cy="20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5791320" y="3886200"/>
          <a:ext cx="2485800" cy="20098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91320" y="3886200"/>
                    <a:ext cx="248580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1295280" y="4038480"/>
          <a:ext cx="2733840" cy="19814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95280" y="4038480"/>
                    <a:ext cx="2733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3333cc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LE CATEGORIE VEICOLA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I dati di traffico rilevati dall’ANAS sono disaggregati per categorie di veico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Le categorie son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       </a:t>
            </a:r>
            <a:r>
              <a:rPr b="0" lang="it-IT" sz="2000" spc="-1" strike="noStrike">
                <a:solidFill>
                  <a:srgbClr val="ffff66"/>
                </a:solidFill>
                <a:latin typeface="Wingdings"/>
                <a:ea typeface="Wingdings"/>
              </a:rPr>
              <a:t>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motoveico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       </a:t>
            </a:r>
            <a:r>
              <a:rPr b="0" lang="it-IT" sz="2000" spc="-1" strike="noStrike">
                <a:solidFill>
                  <a:srgbClr val="ffff66"/>
                </a:solidFill>
                <a:latin typeface="Wingdings"/>
                <a:ea typeface="Wingdings"/>
              </a:rPr>
              <a:t>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autovetture con meno di 10 p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       </a:t>
            </a:r>
            <a:r>
              <a:rPr b="0" lang="it-IT" sz="2000" spc="-1" strike="noStrike">
                <a:solidFill>
                  <a:srgbClr val="ffff66"/>
                </a:solidFill>
                <a:latin typeface="Wingdings"/>
                <a:ea typeface="Wingdings"/>
              </a:rPr>
              <a:t>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autocarri con peso totale a carico autorizzato inferiore a 3 tonnel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       </a:t>
            </a:r>
            <a:r>
              <a:rPr b="0" lang="it-IT" sz="2000" spc="-1" strike="noStrike">
                <a:solidFill>
                  <a:srgbClr val="ffff66"/>
                </a:solidFill>
                <a:latin typeface="Wingdings"/>
                <a:ea typeface="Wingdings"/>
              </a:rPr>
              <a:t>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autocarri con peso totale a carico autorizzato superiore a 3 tonnel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       </a:t>
            </a:r>
            <a:r>
              <a:rPr b="0" lang="it-IT" sz="2000" spc="-1" strike="noStrike">
                <a:solidFill>
                  <a:srgbClr val="ffff66"/>
                </a:solidFill>
                <a:latin typeface="Wingdings"/>
                <a:ea typeface="Wingdings"/>
              </a:rPr>
              <a:t>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autocarri con rimorch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       </a:t>
            </a:r>
            <a:r>
              <a:rPr b="0" lang="it-IT" sz="2000" spc="-1" strike="noStrike">
                <a:solidFill>
                  <a:srgbClr val="ffff66"/>
                </a:solidFill>
                <a:latin typeface="Wingdings"/>
                <a:ea typeface="Wingdings"/>
              </a:rPr>
              <a:t>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trattori con semirimorch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       </a:t>
            </a:r>
            <a:r>
              <a:rPr b="0" lang="it-IT" sz="2000" spc="-1" strike="noStrike">
                <a:solidFill>
                  <a:srgbClr val="ffff66"/>
                </a:solidFill>
                <a:latin typeface="Wingdings"/>
                <a:ea typeface="Wingdings"/>
              </a:rPr>
              <a:t>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auto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       </a:t>
            </a:r>
            <a:r>
              <a:rPr b="0" lang="it-IT" sz="2000" spc="-1" strike="noStrike">
                <a:solidFill>
                  <a:srgbClr val="ffff66"/>
                </a:solidFill>
                <a:latin typeface="Wingdings"/>
                <a:ea typeface="Wingdings"/>
              </a:rPr>
              <a:t>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autoveicoli e insieme di autoveicoli accoppiati destinati a trasport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            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eccezionali o adibiti ad usi speci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       </a:t>
            </a:r>
            <a:r>
              <a:rPr b="0" lang="it-IT" sz="2000" spc="-1" strike="noStrike">
                <a:solidFill>
                  <a:srgbClr val="ffff66"/>
                </a:solidFill>
                <a:latin typeface="Wingdings"/>
                <a:ea typeface="Wingdings"/>
              </a:rPr>
              <a:t>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veicoli agrico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Viene definito </a:t>
            </a:r>
            <a:r>
              <a:rPr b="0" lang="it-IT" sz="2000" spc="-1" strike="noStrike" u="sng">
                <a:solidFill>
                  <a:srgbClr val="ffff66"/>
                </a:solidFill>
                <a:uFillTx/>
                <a:latin typeface="Times New Roman"/>
              </a:rPr>
              <a:t>traffico giornaliero medio leggero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 il TGM dato dalla somma dei TGM relativi alle prime tre catego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La somma dei TGM relativi alle altre categorie fornisce il valore del </a:t>
            </a:r>
            <a:r>
              <a:rPr b="0" lang="it-IT" sz="2000" spc="-1" strike="noStrike" u="sng">
                <a:solidFill>
                  <a:srgbClr val="ffff66"/>
                </a:solidFill>
                <a:uFillTx/>
                <a:latin typeface="Times New Roman"/>
              </a:rPr>
              <a:t>traffico giornaliero medio pes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15000" y="6453360"/>
            <a:ext cx="3429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ANAS - DIREZIONE CENTRALE LAV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876920" y="5904000"/>
          <a:ext cx="803160" cy="95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5904000"/>
                    <a:ext cx="80316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364680" y="6499080"/>
            <a:ext cx="1126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85800"/>
            <a:ext cx="822960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3333cc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IL RILEV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L’ubicazione dei posti di rilevamento ha formato oggetto di accurato studio per escludere le zone interessate in modo preminente dal traffico lo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La distanza fra i posti di rilevamento varia a seconda della strada statale e oscilla mediamente fra i 30 ed i 50 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15000" y="6453360"/>
            <a:ext cx="3429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ANAS - DIREZIONE CENTRALE LAV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876920" y="5904000"/>
          <a:ext cx="803160" cy="95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5904000"/>
                    <a:ext cx="80316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364680" y="6499080"/>
            <a:ext cx="1126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685800"/>
            <a:ext cx="822960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3333cc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Distribuzione media del traffico per catego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6453360"/>
            <a:ext cx="3429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ANAS - DIREZIONE CENTRALE LAV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876920" y="5904000"/>
          <a:ext cx="803160" cy="95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5904000"/>
                    <a:ext cx="80316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364680" y="6499080"/>
            <a:ext cx="1126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1219320"/>
            <a:ext cx="822960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838080" y="1600200"/>
          <a:ext cx="7419960" cy="4114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600200"/>
                    <a:ext cx="7419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3333cc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Distribuzione media del traffico per catego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15000" y="6453360"/>
            <a:ext cx="3429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ANAS - DIREZIONE CENTRALE LAV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876920" y="5904000"/>
          <a:ext cx="803160" cy="95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5904000"/>
                    <a:ext cx="80316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364680" y="6499080"/>
            <a:ext cx="1126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1219320"/>
            <a:ext cx="822960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371600" y="1371600"/>
          <a:ext cx="6473880" cy="4602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1371600"/>
                    <a:ext cx="6473880" cy="46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3333cc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Distribuzione media del traffico per catego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6453360"/>
            <a:ext cx="3429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ANAS - DIREZIONE CENTRALE LAV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876920" y="5904000"/>
          <a:ext cx="803160" cy="95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5904000"/>
                    <a:ext cx="80316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64680" y="6499080"/>
            <a:ext cx="1126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1219320"/>
            <a:ext cx="822960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990720" y="1447920"/>
          <a:ext cx="7467480" cy="4259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447920"/>
                    <a:ext cx="746748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3333cc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Distribuzione media del traffico per catego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6453360"/>
            <a:ext cx="3429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ANAS - DIREZIONE CENTRALE LAV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876920" y="5904000"/>
          <a:ext cx="803160" cy="95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5904000"/>
                    <a:ext cx="80316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364680" y="6499080"/>
            <a:ext cx="1126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1219320"/>
            <a:ext cx="822960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90720" y="1981080"/>
          <a:ext cx="7507080" cy="3567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981080"/>
                    <a:ext cx="7507080" cy="35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3333cc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Distribuzione media del traffico per catego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15000" y="6453360"/>
            <a:ext cx="3429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ANAS - DIREZIONE CENTRALE LAV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876920" y="5904000"/>
          <a:ext cx="803160" cy="95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5904000"/>
                    <a:ext cx="80316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364680" y="6499080"/>
            <a:ext cx="1126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1219320"/>
            <a:ext cx="822960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295280" y="1523880"/>
          <a:ext cx="7088400" cy="4206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523880"/>
                    <a:ext cx="7088400" cy="42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3333cc"/>
            </a:gs>
            <a:gs pos="100000">
              <a:srgbClr val="00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Distribuzione media del traffico per catego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6453360"/>
            <a:ext cx="3429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ANAS - DIREZIONE CENTRALE LAV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876920" y="5904000"/>
          <a:ext cx="803160" cy="95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5904000"/>
                    <a:ext cx="80316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364680" y="6499080"/>
            <a:ext cx="1126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GIUGN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1219320"/>
            <a:ext cx="822960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914400" y="1414440"/>
          <a:ext cx="7696080" cy="4240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414440"/>
                    <a:ext cx="7696080" cy="42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10:15:44Z</dcterms:created>
  <dc:creator>ut14183</dc:creator>
  <dc:description/>
  <dc:language>en-US</dc:language>
  <cp:lastModifiedBy>AMB-EMISS</cp:lastModifiedBy>
  <cp:lastPrinted>2001-06-13T13:50:46Z</cp:lastPrinted>
  <dcterms:modified xsi:type="dcterms:W3CDTF">2001-06-13T15:30:04Z</dcterms:modified>
  <cp:revision>22</cp:revision>
  <dc:subject/>
  <dc:title>IL TGM</dc:title>
</cp:coreProperties>
</file>